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97188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6B272D-37B4-465B-BE63-EDD60C7B6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1880" y="87742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F4B9EC-9AC3-43D8-8F89-5766ABE5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1880" y="87742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A1BF0F-80B0-49EC-A8D2-D615E710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4414-F3DB-4045-9C10-FD8A25D77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2F1E-0010-49B8-81C2-F626097F2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9CEB-573D-4D63-8071-A6235F747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01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66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36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01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66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92A5-4FD8-4B25-9A8C-DC48431EF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32D8D-8ADE-4A9A-AEE3-55B60CCAFA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3B54-6057-4916-8E0B-F857F5C726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DC16-E58B-4BBF-9360-E5B6B6A98C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E316-1E45-40BE-A952-EDD45FAB28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EFDD-436B-4714-B824-C6944A04FC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2360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B276-EAB8-4A2F-93C4-2ADA8CA460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8C3A-1D77-474D-B215-A74602C51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3D4A-527D-4386-A5F7-A00592ADF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67BB-0B9B-41A8-B34C-6FF1E9B980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1D07-C6F1-4E8C-B40D-238339C7B0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32F9-0FAD-4D66-A9E7-D8A5924373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C826-9527-4637-A8B5-C077D3BB0E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01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66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236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01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66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B28A-F24B-42C3-AC70-967F6037F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DF55-9979-445B-B263-ABC4E4F59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8103-5415-4518-A697-31CF466CC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8C02-82BB-47D7-A2F8-E99E71493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360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0FE3-B03F-4718-B443-1F0DA3370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ED4A-1833-4175-8242-4DBA6AED5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85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6C9B-7BCE-424B-AEC4-09A2CF7C0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85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A636-53B1-4C33-B074-776421F82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o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3396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EF09-20CB-4FCD-9757-95F00E1582D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ortada_p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3"/>
          <p:cNvSpPr/>
          <p:nvPr/>
        </p:nvSpPr>
        <p:spPr>
          <a:xfrm>
            <a:off x="1411200" y="852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14120" y="638820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1CFC-5482-4882-B266-58656A57D3F4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D72C-3A2B-4D33-951A-3A35506D68C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Módulo IV: Comprensión escrita de textos académicos en inglé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5994-790A-4328-A193-85120F2BBA26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2.1 Palabras similares al español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Gracias a las raíces latinas del español, podemos afirmar que hay un índice más elevado de palabras en común entre el inglés escrito – sobre todo cuando  lo escrito es de tono formal – y el español, que el que hay entre el inglés hablado y el español hablad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79B5-1B87-4A50-9B63-C5E8DBA8B47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Propósito de estudio de este tema: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omar conciencia de las relaciones lingüísticas ya que serán de utilidad cuando leas en inglé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Hacer el aprendizaje del idioma más fácil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Facilitar el aprendizaje de vocabulari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32E0-3D77-4342-9AAD-B0915E6A195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Cognados exactos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84000" y="1628640"/>
            <a:ext cx="5859720" cy="388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Hospit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rr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eutr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Fact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de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Hot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Gener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oc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adi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DAA-E682-4D42-9AA9-E5A2E5C3955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Cognados cercanos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27280" y="1484280"/>
            <a:ext cx="5716800" cy="461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Elega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Mod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Huma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nivers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Move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ile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Musi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iteratur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AFC-4219-4D62-BBFC-3926C4C1EE6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Cognados Fals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1628640"/>
          <a:ext cx="7620120" cy="4330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spañol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glés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rrect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correct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ual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esent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ual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mp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eld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mp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estar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 answer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 contest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rient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lativ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rent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ctura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ading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ctur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an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ealthy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an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21AA-4E53-4F67-B0DF-7AA3F03140F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Impact"/>
              </a:rPr>
              <a:t>2.2 Estructura de la palab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 Raíz:  es la parte de la palabra cuyo significado no cambia. Prefijos y/o sufijos se añaden a la raíz para formar nuevas palabra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os Prefijos: son los elementos que preceden a las palabras, y que les añaden significación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F13F-8084-4EDD-AA3D-3F1AB86B1C1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Función del Sufij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3600" y="1700280"/>
            <a:ext cx="7620120" cy="439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odificar la raíz de tal forma que se transforme a una de las siguientes funciones: en un sustantivo, en un verbo, en un adjetivo o en un adverbi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Un ejemplo: la palabra retomar se compone de la raíz 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tom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el prefijo -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r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y el sufijo -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ar.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Cada elemento da significado a la palabra. En este caso el añadir el prefijo -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r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a la raíz da el significado de “volver a” y el añadir el sufijo 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ar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da la función de verb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A812-C7AD-436E-A0FE-EA0BECCFECB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00"/>
                </a:solidFill>
                <a:latin typeface="Impact"/>
              </a:rPr>
              <a:t>Comparativos de igualdad:</a:t>
            </a:r>
            <a:endParaRPr b="0" lang="en-US" sz="48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42920" y="1773360"/>
          <a:ext cx="1657440" cy="5173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firmativ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64000" y="1628640"/>
            <a:ext cx="4176720" cy="9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AS + adjective + AS = TAN + adjetivo + COMO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700360" y="206064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1476360" y="328464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468360" y="3068640"/>
            <a:ext cx="813600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This book is as interesting as that magazine.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Este libro es tan interesante como esa revista.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Buenos Aires is as expensive as Tokyo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Buenos Aires es tan cara como Tokio. 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996D-26EC-4D91-A23C-4E40B98C827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00"/>
                </a:solidFill>
                <a:latin typeface="Impact"/>
              </a:rPr>
              <a:t>Comparativos de igualdad:</a:t>
            </a:r>
            <a:endParaRPr b="0" lang="en-US" sz="48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628640"/>
          <a:ext cx="1657440" cy="57816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gativo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5329080" cy="9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NOT AS + adjective + AS =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NO TAN + adjetivo + COMO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3564000" y="191628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476360" y="328464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468360" y="3068640"/>
            <a:ext cx="8136000" cy="24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This flat is not as big as that house.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Este departamento no es tan grande como esa casa.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Paris is not as expensive as Tokyo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París no es tan cara como Tokio. 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 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45C3-AC1D-4BC4-BD7B-EDF7CE1B90E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Comparativos de superioridad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141720"/>
          <a:ext cx="2735280" cy="94464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jetivos hasta 2 sílabas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14920" y="3213000"/>
            <a:ext cx="507816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adjective + ER + THAN =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S + adjetivo + QU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3564000" y="36450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835280" y="443700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611280" y="1700280"/>
            <a:ext cx="8207280" cy="12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Los monosílabos y los bisílabos terminados en sonido vocálico o con acento en la segunda sílaba forman el comparativo añadiendo -er al adjetivo: 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1187280" y="4581360"/>
            <a:ext cx="7345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This book is cheaper than that magazine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Este libro es más barato que esa revista.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BB8F-6131-4A2D-A0E9-43C92A15081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Objetivos Generales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esarrollar la habilidad lectora de textos en inglés para facilitar los estudios académic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nocer y aplicar estrategias que faciliten los procesos que intervienen en la lectur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esarrollar un sentido de confianza en sí mism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919E-BE19-42D4-AE43-06EE1BE1361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Comparativos de superioridad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6920" y="3141720"/>
          <a:ext cx="2735280" cy="94464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jetivos de más de 2 sílabas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14920" y="3213000"/>
            <a:ext cx="507816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ORE + adjective + THAN =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ÁS + adjetivo + QU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3564000" y="36450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35280" y="443700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611280" y="1700280"/>
            <a:ext cx="820872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n los polisílabos se antepone more (más) al adjetivo seguido de 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than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qu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comparativo):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1187280" y="4581360"/>
            <a:ext cx="7345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Paris is more interesting than Los Angeles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rís es más interesante que Los Angeles.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2046-26D8-4DA7-BDD1-1C938A9BBE9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Comparativos de inferioridad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835280" y="443700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116000" y="2852640"/>
            <a:ext cx="66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11280" y="1700280"/>
            <a:ext cx="7921440" cy="41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Se antepone “less” (menos) al adjetivo seguido de”than” (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qu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comparativo):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less expensive than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enos caro que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less intelligent than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enos inteligente que. </a:t>
            </a:r>
            <a:endParaRPr b="1" lang="en-US" sz="2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DD8D-7893-4E31-9DA9-42A164834C2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Comparativos de superioridad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49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Los monosílabos y bisílabos añaden la terminación -est al adjetivo: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You are the tallest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eres el más alto; </a:t>
            </a: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Mount Everest is the highest mountain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el monte Everest es la montaña más al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Los polisílabos anteponen the most (el más, los más, la más, las más) al adjetivo: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This book is the most expensive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este libro es el más car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El superlativo de inferioridad se forma añadiendo the least (el menos) al adjetivo: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 Narrow"/>
              </a:rPr>
              <a:t>La Rioja is the least expensive province in Argentina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, La Rioja es la provincia argentina menos ca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676E-B9FA-4B3C-AD8B-AF28FFE1E66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2.3 El contexto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Otra estrategia más para deducir un significado es el recurrir al contexto del text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Sin embargo, no hay que olvidar que los textos rara vez se limitan a una sola oración; las ideas de una oración y otra pueden formar parte del significado buscad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500F-69D7-475E-B7C9-6D7CFE6A190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Impact"/>
              </a:rPr>
              <a:t>2.4 Predicción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El predecir es un proceso automático cuando se lee en la lengua materna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No necesariamente podemos hacerlo en una lengua extranjera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 práctica te permitirá hacerlo  de manera inconscient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FAFE-7B25-4556-B9D2-877C49448CB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Impact"/>
              </a:rPr>
              <a:t>3.1 Puntuación</a:t>
            </a:r>
            <a:r>
              <a:rPr b="0" lang="es-ES" sz="44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a puntuación es una herramienta para segmentar y/o estructurar la información dentro de un text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mo lector, el estar consciente de las funciones que tienen estos signos te servirán para guiar la lectur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7B98-63FC-499F-A145-811585CD1AC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 coma se usa par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ndicar una serie dentro de una list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ar las partes de una secuenci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mostrar alternativa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ar información gener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eparar una cláusula subordinada de la princip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dentificar algunas partículas de enla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resaltar palabras y frases que expresan la actitud del escritor o indicar frases de tiempo o espaci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E2EE-BD91-42A7-AE3F-5D2B31C8E0D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El punto y la coma se usa par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balancear dos ideas (cláusulas), que por lo general se contrastan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separar elementos extensos en una list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F32C-CC57-4536-BA94-2C80ED7C479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Dos puntos se usan par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resentar una list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resentar información que extiende una idea previa,  ya sea complementándola o haciendo explícita una implicación existent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231A-7142-4274-B581-128FA4E7D46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El Guión indic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 comentario adicional o recapacitación del auto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ara que dos o más palabras sean tomadas como una unidad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ara dividir una palabra al final de una líne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507-E95B-40F2-8A1D-336ADE861D5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lementos interventores de la lectura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 lecto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 text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 objetivo / met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as estrategia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0B5C-1FBA-4500-9758-C907BF79679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Impact"/>
              </a:rPr>
              <a:t>El Paréntesis indica: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información gener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a explicación no técnica de un término técnic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 término técnic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hacer más explícita o ejemplificar una idea anterio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7EA1-198C-499F-B22E-94BCDFAE5EA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Impact"/>
              </a:rPr>
              <a:t>Las comillas se usan pa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citar o indicar un títul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indicar un término extranjero o técnic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indicar que una palabra o frase está siendo usada fuera de su contexto normal, o con un significado especial o desconocid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985C-DFFA-4C5E-9F5B-0E3AE6C8E16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Impact"/>
              </a:rPr>
              <a:t>3.2 Los Nex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e usan para unir las oracion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an cierta organización lógic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Guían al lector a lo largo del text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on generalmente conjunciones, pero suelen ser preposiciones o adverbi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l igual que en español, la elección de un nexo (siendo del mismo grupo) es de tipo estilist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tienen ni género ni númer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8C3E-F0D2-4A39-BC99-ED7DB4D767A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proceso de lectu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3960" y="1980720"/>
            <a:ext cx="766440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ee rápidamente cada text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11280" y="2997360"/>
          <a:ext cx="3417840" cy="1592280"/>
        </p:xfrm>
        <a:graphic>
          <a:graphicData uri="http://schemas.openxmlformats.org/drawingml/2006/table">
            <a:tbl>
              <a:tblPr/>
              <a:tblGrid>
                <a:gridCol w="3417840"/>
              </a:tblGrid>
              <a:tr h="15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 deja de 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 ver el bosque por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r ver los árboles.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788000" y="2997360"/>
          <a:ext cx="3417840" cy="1663560"/>
        </p:xfrm>
        <a:graphic>
          <a:graphicData uri="http://schemas.openxmlformats.org/drawingml/2006/table">
            <a:tbl>
              <a:tblPr/>
              <a:tblGrid>
                <a:gridCol w="3417840"/>
              </a:tblGrid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You cannot see th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he woods because of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f the trees.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8FF9-A6AD-4F9B-B69D-3C328A1BCAAC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proceso de lectu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ada texto tiene un par de errore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o más probable es que notaste los errores del texto en inglé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uando lees en inglés, tus ojos probablemente se mueven de la siguiente manera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..the major additions to the original buildings ….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332000" y="4653000"/>
            <a:ext cx="792000" cy="431640"/>
          </a:xfrm>
          <a:custGeom>
            <a:avLst/>
            <a:gdLst>
              <a:gd name="textAreaLeft" fmla="*/ 115920 w 792000"/>
              <a:gd name="textAreaRight" fmla="*/ 676080 w 79200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2411280" y="4653000"/>
            <a:ext cx="792360" cy="431640"/>
          </a:xfrm>
          <a:custGeom>
            <a:avLst/>
            <a:gdLst>
              <a:gd name="textAreaLeft" fmla="*/ 115920 w 792360"/>
              <a:gd name="textAreaRight" fmla="*/ 676440 w 79236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490920" y="4653000"/>
            <a:ext cx="792000" cy="431640"/>
          </a:xfrm>
          <a:custGeom>
            <a:avLst/>
            <a:gdLst>
              <a:gd name="textAreaLeft" fmla="*/ 115920 w 792000"/>
              <a:gd name="textAreaRight" fmla="*/ 676080 w 79200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4570560" y="4653000"/>
            <a:ext cx="792000" cy="431640"/>
          </a:xfrm>
          <a:custGeom>
            <a:avLst/>
            <a:gdLst>
              <a:gd name="textAreaLeft" fmla="*/ 115920 w 792000"/>
              <a:gd name="textAreaRight" fmla="*/ 676080 w 79200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5649840" y="4653000"/>
            <a:ext cx="792360" cy="431640"/>
          </a:xfrm>
          <a:custGeom>
            <a:avLst/>
            <a:gdLst>
              <a:gd name="textAreaLeft" fmla="*/ 115920 w 792360"/>
              <a:gd name="textAreaRight" fmla="*/ 676440 w 792360"/>
              <a:gd name="textAreaTop" fmla="*/ 63000 h 431640"/>
              <a:gd name="textAreaBottom" fmla="*/ 36864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C530-BBFA-4CF8-BEFB-5661E8FB040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proceso de lectu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20040" cy="42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ada flecha representa una pausa en el movimiento de tus ojo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ada pausa toma tiempo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n lector cuya lengua materna sea el inglés, lee el mismo texto así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..the major additions to the original buildings ….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1476360" y="4508640"/>
            <a:ext cx="1728720" cy="792000"/>
          </a:xfrm>
          <a:custGeom>
            <a:avLst/>
            <a:gdLst>
              <a:gd name="textAreaLeft" fmla="*/ 253080 w 1728720"/>
              <a:gd name="textAreaRight" fmla="*/ 1475640 w 172872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4" name="AutoShape 11"/>
          <p:cNvSpPr/>
          <p:nvPr/>
        </p:nvSpPr>
        <p:spPr>
          <a:xfrm rot="21469800">
            <a:off x="3708000" y="4292280"/>
            <a:ext cx="3600360" cy="1009440"/>
          </a:xfrm>
          <a:custGeom>
            <a:avLst/>
            <a:gdLst>
              <a:gd name="textAreaLeft" fmla="*/ 527040 w 3600360"/>
              <a:gd name="textAreaRight" fmla="*/ 3073320 w 3600360"/>
              <a:gd name="textAreaTop" fmla="*/ 147600 h 1009440"/>
              <a:gd name="textAreaBottom" fmla="*/ 861840 h 1009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FE53-C45B-42F8-9846-56A4C5FD4BA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El proceso de lectura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te lector se centra en menos palabras que tú, y aún así él está leyendo con más comprensión porque centra su atención en aquellas palabra con mayor significado en la ide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DFB6-8C1F-48E4-92EA-994B3B5124B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4.1 Hojear y Rastear (skim and scan)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Naturalmente hay textos que deben leerse en detall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os estudiantes de una lengua extranjera suelen insistir en leer todo, palabra por palabr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La lectura en detalle casi nunca es desde un enfoque de “palabra por palabra”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920-EFA8-4040-97CD-9B6CD813162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Circunstancias en que aplica el hojear un text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Ver qué esta disponible (ejemplo: en un menú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escubrir si un texto será interesante o úti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erciorarse de la idea o de la actitud general del autor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eterminar dónde empezar a buscar información específica (preludio a rastrear información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DDAF-2C1E-4CAB-868F-6A9BC76D8D7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4.2 Identificar idea principal y secundaria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a idea principal encierra los datos precisos y concretos que expresa una afirmación amplia en la que quedan incluidas y resumidas las demás fras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Es una frase abstracta (que generaliza) y de mayor comprens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Es imprescindible en el texto para que tenga sentido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EC18-4F3B-4149-B1F7-DA5CFDD3E02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lementos interventores  en el lector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xperiencias previa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Conocimientos previo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Habilidades para le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Motivació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Interés en el tem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Factores físicos (hambriento o soñoliento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A51D-36D8-4C6D-8429-D2193628DEE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s ideas principale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Un texto es conocimiento estructurado. 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Para entender dicho conocimiento debes reconocer dicha estructura primero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5DBC-F323-49F8-A769-9160B9FA05D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s ideas principale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generalmente tienen una relación lógica, fácil de entender y recordar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definen un "esqueleto" conceptual donde podrá ubicar después los detalles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BD37-9E11-484C-A507-1AEAD35C6B2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Las ideas secundaria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Son menos importante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Dan detalles, argumentos, más ideas en relación a la idea principal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Si se suprimen las ideas secundarias, el  texto tiene sentido pero perdemos los detalles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BF0F-1690-4F2F-A3F2-84C1321483A5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Método “SQ3R”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050560" y="1981080"/>
            <a:ext cx="6293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urvey = Explora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Question = Pregunta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ad = Le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cite = Recita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Review = Repasa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3266-BA2E-4C49-A3AD-FD76D50D023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5. Recomendacione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regúntate constantemente qué es lo que está tratando de decir el autor, en una actitud mental similar a la que tendrías si estuvieras conversando con él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No te fijes en los detalles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ncéntrate en las ideas principales y descubrirás que recordar los detalles resulta más fácil.  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1417-891C-46C1-BF3B-20E5FAA4F65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3600" y="915480"/>
            <a:ext cx="7543800" cy="17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Impact"/>
              </a:rPr>
              <a:t>D. R.  Septiembre 2007</a:t>
            </a:r>
            <a:br>
              <a:rPr sz="3600"/>
            </a:br>
            <a:r>
              <a:rPr b="0" lang="es-MX" sz="3600" spc="-1" strike="noStrike">
                <a:solidFill>
                  <a:srgbClr val="ffcc00"/>
                </a:solidFill>
                <a:latin typeface="Impact"/>
              </a:rPr>
              <a:t>Monterrey, Nuevo León; México.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3600" y="3789000"/>
            <a:ext cx="7620120" cy="230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cuela de Graduados en Educació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Universidad Virtu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Tecnológico de Monterre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4046-1CDC-4B7C-A540-8C59C6524489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Impact"/>
              </a:rPr>
              <a:t>1.1 </a:t>
            </a: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Conociendo mi estilo de aprendizaje</a:t>
            </a:r>
            <a:r>
              <a:rPr b="0" lang="es-ES" sz="40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trategias de aprendizaje son aquellas acciones que permiten que un aprendizaje sea más sencillo, rápido, divertido, auto-dirigido, efectivo y transferible a otras situaciones.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 (Oxford, 1990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D03-EB85-4103-9EF3-568D1BAD48F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Impact"/>
              </a:rPr>
              <a:t>Escala para responder inventario de estrategías de aprendizaje de un idioma extranjero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3600" y="2276280"/>
            <a:ext cx="7620120" cy="38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unca o casi nunca lo hago: rara vez cierto para mí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sualmente no lo hago: es cierto en un porcentaje menor a 5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lgunas veces lo hago: 50% de las ve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Usualmente lo hago: Mas del 50%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Siempre o casi siempre lo hago: es cierto para casi todas las ve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E58F-9E97-4AA4-A293-2E87377F05F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Impact"/>
              </a:rPr>
              <a:t>Instrucciones para resultados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scribir su respuesta (1, 2, 3, 4, o 5) en la tabla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umar los puntos de cada columna (cada sección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Dividir la suma de la sección entre el número de preguntas de dicha secció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Hacer el promedio total (suma de todas las respuestas dividido entre 50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7089-12A4-41B2-BE17-4C5E74593924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3600" y="1197000"/>
            <a:ext cx="7620120" cy="48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El mejor uso de estrategia depende de tu edad, personalidad, y propósito del aprendizaje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</a:rPr>
              <a:t>Si tienes un puntaje bajo en una o varias de las secciones, podrías intentar emplear más estas estrategias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6934320" y="621036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A329-F998-4A82-93AD-FE46643D4C7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Impact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00"/>
                </a:solidFill>
                <a:latin typeface="Impact"/>
              </a:rPr>
              <a:t>1.2 Conociendo y evaluando el propósito de mi lectura</a:t>
            </a:r>
            <a:endParaRPr b="0" lang="en-US" sz="4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 lectura de textos académicos en inglés es una experiencia nueva para muchos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Debes centrar tu lectura en aspectos del texto, hechos, lo “fácilmente visible”; parte de tu conocimiento previ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Continua leyendo, termina la lectura, resúmela, y relaciona la información nueva con tu conocimiento previ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No permitas que tus experiencias negativas interfieran con esta meta que te has fijado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9:20:41Z</dcterms:created>
  <dc:creator>Perla Jtt. Sánchez Reyna</dc:creator>
  <dc:description/>
  <dc:language>en-US</dc:language>
  <cp:lastModifiedBy>Equipo1</cp:lastModifiedBy>
  <dcterms:modified xsi:type="dcterms:W3CDTF">2011-03-15T16:31:55Z</dcterms:modified>
  <cp:revision>143</cp:revision>
  <dc:subject>Lic. Cesar Davis Moncada</dc:subject>
  <dc:title>PAH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PublishingExpirationDate">
    <vt:lpwstr/>
  </property>
  <property fmtid="{D5CDD505-2E9C-101B-9397-08002B2CF9AE}" pid="4" name="PublishingStartDate">
    <vt:lpwstr/>
  </property>
  <property fmtid="{D5CDD505-2E9C-101B-9397-08002B2CF9AE}" pid="5" name="SPSDescription">
    <vt:lpwstr>Documento de PPT, Módulo V comprension de textos en inglés.</vt:lpwstr>
  </property>
  <property fmtid="{D5CDD505-2E9C-101B-9397-08002B2CF9AE}" pid="6" name="Status">
    <vt:lpwstr/>
  </property>
</Properties>
</file>